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D486-F096-4FB7-AFC8-AAEC6663A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A7EF-C8AB-48E5-AFE0-079D13C9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04E05B-CFF4-4571-8972-D202F163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4F41C9-5631-4218-B714-69389553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1B8FF0-7733-403F-9D75-2BE54ACC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5F8556-A750-4D56-A378-09BABA3C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3FDA54-3052-4E1F-ABEB-F569B758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8960E9-CF38-47F7-959B-4C218D3F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7DE859-24E0-4708-8D52-34F500CB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85D77A-C702-4962-9E7A-62447D858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481B0E-B97A-48BC-A801-0E128A5A1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7B45F3-AED3-490D-B8CD-9AFE3B75E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BCA8-1A4D-43D0-9C5C-DFC0B373F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CB4EC3-DC04-4AF3-9355-D9634532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71E639-786C-4B10-9DF1-0D2665D4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410DB0-6362-492A-9DBB-236F531A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CEB1FC-DA56-4B9C-947B-F192C50A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600EAB-4927-42F4-804C-92AC0025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6000E6-5862-42BF-82C2-750814E8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A9B8F5-AD64-4BFA-993D-7D9476CC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430E53-78A5-43F9-B15B-07487010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BDE5E2-1701-48DD-961F-1F343A10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BC4DDE-6DD0-43EB-A834-3EC7F47F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7E79-B7B5-4575-B395-9911716F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E1810E-1C4D-4478-8DEC-86E4F981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2C00D-57D0-4273-BAD1-6BC8BAA4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CCA14-6825-4878-8304-1658F0A7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02553-1DC5-4450-96C9-4FF5AB78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72309-F775-4CD8-BC48-FF29C315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D248B-366A-47BC-87FB-FACA8079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B77F6-1BDC-4265-9893-2D7BA280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B6535-662F-4AC1-8D4A-2AC5B2B3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1E978-32E2-46AA-8E72-BAEE84F2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35FE1-49F0-4616-94B8-00B8646A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0FBE-2898-4A24-9292-5C16FA00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110AB-8341-425F-AB41-009F6367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0F358-FDF3-4981-98B4-2359739A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B5A83-7A03-4670-936D-994B40D3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777771-657D-47A8-A7D4-7D63CE63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EF7BB0-DDBC-4B53-845B-20A5E9AD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4FD60F-94BB-436C-995E-255B7105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764599-006F-4CDE-A09E-D0D24EFB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4654AC-3B65-40D2-839C-EC32D1F6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B7032F-B974-49A9-993B-37A967C6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3C49C1-FC02-4B53-BC0D-3F4E2BB7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B495-FD55-47B5-BFC4-645131BB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D44F78-A30C-4F4F-AA8E-003753AB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C59A6A-CA85-48A6-B43C-89956A09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90B21E-CEFB-4DEE-9D7A-F967C227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ABFF24-48DB-43DE-8EFB-67FF5DEA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10CE7D-874A-4998-840A-5A9E5E040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73DE-0CA4-4F2D-B8DC-45E23A48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BAA3-AEFD-405E-9217-AAF3AD70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8350-FB51-4F65-9467-77C96D82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3C26-D43E-4712-8FFC-D71C89E4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1651-020F-498E-9BAC-62BD7159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A903-A6D0-4B4A-96C0-F447BE3A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8FF3-76D3-4325-970B-DDFD846E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06CC-AFE4-4C83-A31E-C39D1394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DC16-051A-4E24-AE7B-99CF32BF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1C76-1780-4133-AD85-30F25533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C5CF-4507-46B4-A9DF-CF528127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7E533-B216-47C6-827C-FA40F213B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B6E6B-F230-48D3-BB80-092693E0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F7AC0-A8BE-481B-B6C6-29EE77E3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6162E-8037-4F55-BEB4-04470984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B0FAA-B12A-41CC-B0D4-3E6024B9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31F8-1783-4D37-820D-44691176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B93F1-0997-404A-8A52-7848C53B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CAB80-7E05-4B3A-A2BE-2B383CAC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C413E-953D-4FB2-AA82-5B4376E7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A4FA5-1D92-4CE9-96C4-07499C65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CBBE4-8478-4E90-9A9F-DA44B936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15702-FECB-4684-B890-0196B5B5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EE29C-7247-43C1-A100-6453804B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2BFB4-0C15-4A70-8B46-6A47D7F2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0585B-6F3E-4D0F-AE9F-E0201698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66A8C-41ED-4748-A38A-073ACAD8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C0D5-FD91-4B03-B6A2-BCBA2BCC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8717E-73A6-4BCD-B49A-39DB4691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EF0A2-F67F-4754-8D20-7AA4E8FA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06B37-637B-4FD3-A736-BC7D8C8F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81653-E018-4597-94A3-1D9E6175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B1093-3FAE-41B4-86CD-E99CBBFE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900CF-7270-4F95-AD27-3D342A08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F5C9B-481D-4122-BB96-47DBC25E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21284-F654-42E1-80A0-CF4BFF52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54429-74F3-45FA-8F30-9991E646C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D5DAC-FB77-4B21-AAFE-B50369B92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FBB1-2E66-4D24-AD92-C1FD8BC0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86B3B-7138-46E2-A37D-0C31E5E0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37171-DFDA-40CE-A99F-B4028BB3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11661-264D-4DBD-8552-6D40EDD1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13350-B117-4B6C-A73C-6129AD14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2032A-32F1-4FE4-BCEB-67EBB79C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CC586-E739-4604-8F7C-71B4629E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83EDC-AC72-40AD-8E89-2BE770B2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2E1B3-2E49-425C-ADD3-64F35CDD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E9E05-84C1-43B1-A68C-36C8D945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400B8-536F-416A-9607-9EA13398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D614-1625-4081-A7ED-98C20601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89055-E24A-46AC-9BF9-D022BAD24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D525D-776F-44BF-B70A-916F8D41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ED81F-2612-4789-BAD1-33338149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53E30-2046-48AD-AC6A-3055C3C3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BEF53-566A-4CB2-91BB-905D9C8E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C6E7A-0995-4115-94B2-08942C8A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AE0D2-64E0-4D3A-9CEC-869BFE74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F4337-58B7-442E-A737-4F945EEE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BF1C4-52EC-4CCA-B227-D42C4CD5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931C4-6BF2-4A60-8F9A-33BE4C66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8B2B-8EB5-439A-AF51-FCFFCDF6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072B8-E69B-41FE-B266-0FCB2A11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4BBA4-5D28-492A-A82B-90713C5D4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91261-6D31-4C54-98C2-0EAA0F49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3549A-BD42-451A-910B-5252D0A5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4C181-47F6-425E-BABC-E061442B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1BFC2-E349-42A5-91E2-6854BDE1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4F66A-3EDF-4CA4-B99F-0C9A196F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62921-C54A-49B4-847B-BBA1FB10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72899-D922-47F4-B585-8656EC34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03962-2939-403F-96F4-CE523A6C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F274-D975-4C5C-93B0-A49AD780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C05FB-B474-49EC-9C30-E14D4098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89DD9-7FE2-4F1D-8224-146D70BE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88ED7-681C-4E5C-8BE3-EE6EBA17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7A7A4-77D9-4EC0-B5E7-AB94743E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BFF9D-CAA5-4A96-85D0-D3F5A0DA5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06B1C-35EF-44E8-B858-348C76C31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20031-BB2A-4BAE-AF5C-10CA28CF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77EA7-F61A-4FEE-BCDC-54193580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92628-4F80-49D1-861E-68F2C2BA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618F2-7CDE-49DC-B386-FE153938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6DA5-D280-4553-BE6E-5461B8E4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40FC5-687F-4394-BCF6-A84A221F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963FE-D55F-4898-876C-9217D935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DD8FC-4C53-41DF-995B-EEA169F8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991F7-5847-44F7-BBCB-F1CA5694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949CD-50BE-4469-962F-6BFF7500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16236-9942-4542-B98A-6383DB96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ACFCA-059B-4A29-89B8-B61DCB5F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020356-270A-4AF5-8906-F5A908396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728B21-3574-47CA-A039-17D4A904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C6CB12-B7D3-49A2-ACB7-736173E2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CA18-2C65-438A-8394-F205C52CF3F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E1CE-2B58-488E-B43E-F10EC289D17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7A99-09D2-45F1-A2F4-F4E882B4CF0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CC60-2302-496F-B8D9-646ECE73DB2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7B02-9269-4B1C-AB3B-CEBB1B2B424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DA68-4BF2-4638-9C1B-800A22E2D47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5ADD-FCED-431F-8F9F-335A7B97A1C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AD78-46AF-4078-951A-E0E6F873991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EBAB-CDBF-4570-ACA7-C2430E77F98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5140-0909-460E-82E7-55A46A4402E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E59A-6AD0-49B8-871A-4EDEC7A64462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7305-B5A4-4A22-AC1D-34916A9B394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3779640" y="4941720"/>
            <a:ext cx="457812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НЕЧИТАЙЛО И.Н., ПРОНЕР М.А. УЧИТЕЛЯ НАЧАЛЬНЫХ КЛАССОВ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1402920" y="2205000"/>
            <a:ext cx="705492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аспродажи, скидки. </a:t>
            </a:r>
            <a:br>
              <a:rPr sz="4200"/>
            </a:b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ешение задач.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Рисунок 4" descr="скидки.jpg"/>
          <p:cNvPicPr/>
          <p:nvPr/>
        </p:nvPicPr>
        <p:blipFill>
          <a:blip r:embed="rId1"/>
          <a:stretch/>
        </p:blipFill>
        <p:spPr>
          <a:xfrm>
            <a:off x="539640" y="476280"/>
            <a:ext cx="30956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395280" y="549360"/>
          <a:ext cx="8353440" cy="547200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400"/>
                <a:gridCol w="1670040"/>
                <a:gridCol w="1671480"/>
              </a:tblGrid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ы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 39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 5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ез скид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в руб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не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19T12:14:11Z</dcterms:created>
  <dc:creator>Дом</dc:creator>
  <dc:description/>
  <dc:language>en-US</dc:language>
  <cp:lastModifiedBy>User</cp:lastModifiedBy>
  <dcterms:modified xsi:type="dcterms:W3CDTF">2023-02-21T12:12:38Z</dcterms:modified>
  <cp:revision>19</cp:revision>
  <dc:subject/>
  <dc:title>Распродажи, скидки.  Решение задач.</dc:title>
</cp:coreProperties>
</file>